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B124-24BA-4350-B173-E71D9749C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494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D2DA-EAC7-4A81-A678-3DC76C5B1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2E8D-0125-4605-9E68-6C034C417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2D97-F85F-4C01-97BB-E630E7F1C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D0BA-5C7D-4D56-92E3-4023B10C5B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CF38-5743-43EE-BBAD-E3E4526538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140D-3630-44D3-B5F1-D73D6A214A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F1C1-7DDA-4FEA-A8A3-D2F4904E6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1824-0812-4DCF-A843-FB497D71DF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4469-B08B-49E6-BAA5-C23E6358C9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D23A-591D-4FDF-AFBE-7EF1E7575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2AC4-CA09-4C94-AD58-DE02F08DB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95B8-6435-4666-8CCD-6AEE01743F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761B-0B6F-4301-9BF9-B02DF4354A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494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3B50-AF4E-4FD9-A75F-24581A787C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72B0-1F9C-4BAF-BB4C-A7F3F49CA8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494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2EBB-F251-4E49-A58A-0E56269C8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3641-9418-413D-8B82-1B63F1158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A61A-BFE6-4BBC-8A09-B7127A8DA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C979-EA08-42C1-B284-12E81810D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A826-A33F-4DDD-A385-22D82C60D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51F1-DDF4-425F-8ED3-2196BF076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494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19E5-4ECA-4154-818F-07AB99AFA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494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5C29-0225-4BE9-8E74-EE97944D3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63120" y="6620040"/>
            <a:ext cx="390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49DA-37A8-49A7-B436-259D2FC8402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295280"/>
            <a:ext cx="8229600" cy="0"/>
          </a:xfrm>
          <a:prstGeom prst="line">
            <a:avLst/>
          </a:prstGeom>
          <a:ln w="38160">
            <a:solidFill>
              <a:srgbClr val="116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9A4F-FE69-4BDC-937E-F5E0746D3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berinfrastructure for Air Quality Management (CyAi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2457360"/>
            <a:ext cx="9144000" cy="375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Dy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Steve Ludewi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fan Falk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a Shank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hawn McClu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lynis Loug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ma Technology, Inc.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rop Grumman,                                    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ado State University,                              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elle Memorial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ed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th Science Information Partners Air Quality Work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ly 21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15400" y="6643800"/>
            <a:ext cx="11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10114-39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752480"/>
            <a:ext cx="8229600" cy="0"/>
          </a:xfrm>
          <a:prstGeom prst="line">
            <a:avLst/>
          </a:prstGeom>
          <a:ln w="38160">
            <a:solidFill>
              <a:srgbClr val="116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assess limitations and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observations and common topics are being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4C40-7180-4B9E-A6BD-521CA094E2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and/o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 and inter-organiz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nd user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CB67-88CD-47D3-A084-CA33AF50DF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9720" y="5600880"/>
            <a:ext cx="7324560" cy="97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ttle attention has been paid to establishing common ontological protocol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46240" y="1417680"/>
            <a:ext cx="3202200" cy="41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C916-AB44-411F-8F72-AC95A7470C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1120" y="5152680"/>
            <a:ext cx="7781760" cy="97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fficult to understand the best route to go with different formats and access methods…what are the best practices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5122"/>
          <a:stretch/>
        </p:blipFill>
        <p:spPr>
          <a:xfrm>
            <a:off x="250920" y="1590840"/>
            <a:ext cx="421632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54520" y="1590840"/>
            <a:ext cx="4071960" cy="31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BFFD-F985-4808-9478-197B266F85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4857840"/>
            <a:ext cx="8229600" cy="13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 control of issues combined with a lengthy planning process and resource constraints are preventing more widespread data sharin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.There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emphasis on data sharing from top management level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050" t="0" r="9618" b="0"/>
          <a:stretch/>
        </p:blipFill>
        <p:spPr>
          <a:xfrm>
            <a:off x="457200" y="1609560"/>
            <a:ext cx="371484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76760" y="1619280"/>
            <a:ext cx="371016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FB26-D8ED-4544-A9DD-112A8DED08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Result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 of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1520" y="4657680"/>
            <a:ext cx="82296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.Limitations right now are conventions/standards – can’t ask people to spend time to participate in creating conventio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operability burn-out … ‘don’t ask me to do more things’ and ‘things are always changing.’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 want to share data online but don’t know where to star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504" t="0" r="11013" b="0"/>
          <a:stretch/>
        </p:blipFill>
        <p:spPr>
          <a:xfrm>
            <a:off x="504720" y="1565280"/>
            <a:ext cx="3834000" cy="295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17134" t="0" r="6819" b="0"/>
          <a:stretch/>
        </p:blipFill>
        <p:spPr>
          <a:xfrm>
            <a:off x="4829040" y="1576440"/>
            <a:ext cx="36799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890E-75BC-4689-AB80-6EDD6881AD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liminary report summarizing assessment results, gaps, and limitations in the current cyberinfrastructure as well as potential action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rkshop to review and obtain feedback on the assessments, gaps, future vision, and path ahead.  (October 2010 in Research Triangle Par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nal assessment and plan, including a prioritized list of action items to close the identified gaps and improve both data exchange and collaboration in the air quality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BEDF-1DC3-45B2-850A-4C7EEE2FAC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rry Ke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2) 564-11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ating.terry@epa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yAir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 Dye, Steve Ludewig, Stefan Falke, Uma Shankar, Shawn McClure, Glynis L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ww.cyair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4972-F747-4141-9E21-9A82404407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T = Atmospheric Model Evaluatio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S = Air Qualit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L = Air Resources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NET = Clean Air Status and Trend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AQ = Community Multiscale Air Qual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S = Environmental Impac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SS = Global Earth Observation System of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 DISC = Goddard Earth Sciences Data and Information Services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AP = Hemispheric Transport of Air Pollu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SPLIT = Hybrid Single-Particle Lagrangian Integrated Traj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DN = Integrated Atmospheric Deposi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IS = Meteorological Assimilation Data Inges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SGEI = Networked Environmental Information System for Global Emissions Inven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ADS = National Operational Model Archive &amp; Distribu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IG = Remote Sensing Information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I = Visualization Environment for Rich Data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S = Visibility Information Exchange Web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E0A4-7413-4681-ABE0-F615435B9909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057640" y="866880"/>
            <a:ext cx="408636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0" b="13068"/>
          <a:stretch/>
        </p:blipFill>
        <p:spPr>
          <a:xfrm>
            <a:off x="0" y="0"/>
            <a:ext cx="62769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76040" y="1400040"/>
            <a:ext cx="6048360" cy="41846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nterface to CERCLIS is a search form offering numerous points of entry into this massive database … it is not particularly welcoming, it is text heavy, it does not encourage browsing and, although a lot of information can be extracted, it does not easily produce understan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reminds me of my dislike for shopping malls; I will enter only if I know exactly what I want and where it is so I can get in and out as quickly as possible.  My initial curiosity about Superfund was dampened by the data deluge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oke Singer, Artist - www.bsing.net/blo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43084" t="45330" r="37551" b="16236"/>
          <a:stretch/>
        </p:blipFill>
        <p:spPr>
          <a:xfrm>
            <a:off x="733320" y="1406520"/>
            <a:ext cx="2105280" cy="27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8DA1-8F86-49C4-BA0B-B17FFB6C7C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17875" r="20091" b="6321"/>
          <a:stretch/>
        </p:blipFill>
        <p:spPr>
          <a:xfrm>
            <a:off x="0" y="961920"/>
            <a:ext cx="9144000" cy="542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9745-71AD-49D7-AAE8-251ED2C51B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Air projec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 for Cy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43240" y="3298680"/>
            <a:ext cx="4867560" cy="324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6267-CAD0-45A8-80DF-29D38132DA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Air Project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planning, development, and coordination of systems to help the air quality community better utilize air quality informatio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spcBef>
                <a:spcPts val="499"/>
              </a:spcBef>
              <a:buNone/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sues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Workshop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commend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four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Forecasting and Publ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Trends and Ev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Mode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Inventory Development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27C2-255A-44AB-8C99-92E6EBEA44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ment Tasks:                                      Assess Data Provid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229600" cy="51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iders are being interviewed to assess a variety of t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inclu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s of data/information do you sh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r current systems for sha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echnical challenges ex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rganizational challenges ex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what organizations do you exchange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willing to participate in a collaborative air quality commun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iders interviewed include MADIS, ARL, HYSPLIT, and NOMADS (NOAA); VIEWS, GES DISC and Giovanni (NASA); AIRNow, RSIG, CMAQ, IADN, AQS, EIS, VERDI, AMET, HTAP, and CASTNET (EPA); DataFed, and NEISG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4ED2-8846-46ED-85A5-BE0B91C168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ment Task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 Data User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users are being interviewed to assess user needs and issues, data access methods, and data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s of data/information do you u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ata/information challenges do you typicall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, how would you like to acquire data/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ould EPA or other organizations make data/information access easi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willing to participate in a community to share experiences, comment on plans, create prototypes, and help other organiz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users interviewed include representatives of government agencies, educational institutions, and private sector fi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5DA3-8783-407D-A47D-7EA4EBFF5F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ment Task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 Data Provider Characteris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8112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 data provider interviews, analyses are being performed to identify and characterize the current state of data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 comments are used, along with a review of online resources and services published by the data prov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ubsetting (granula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/connections with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8E80-AA9C-4017-981B-260A297867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on for Cy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vision” of CyAir was draf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racteristic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Easy, easy, easy ... to learn about, acquire, and use data and metadata.  A suite of accepted standards, methods, guidelines, code samples, and utilities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A shared understanding exists regarding the path and methods to acquire and use data, and the benefits of community participation.  Efforts are aligned with ongoing work, including the principles of GEO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Agencies align funding and incentives to support development and promote data ex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C3FE-A7C2-43C6-97DD-0651CFE508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1:20:02Z</dcterms:created>
  <dc:creator> </dc:creator>
  <dc:description/>
  <dc:language>en-US</dc:language>
  <cp:lastModifiedBy>Tim Dye</cp:lastModifiedBy>
  <dcterms:modified xsi:type="dcterms:W3CDTF">2010-07-21T12:47:18Z</dcterms:modified>
  <cp:revision>58</cp:revision>
  <dc:subject/>
  <dc:title>This is My Presentation</dc:title>
</cp:coreProperties>
</file>